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8A9-F12A-4429-B805-C2E4ABF3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62E-22B4-4889-8402-196597F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6E5-94ED-4855-8764-4E34A70D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5ED-E853-470C-92E0-FEF1592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216-C703-4885-8F2D-7D288654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005-2F20-4591-A22E-F026234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C77-A813-43CF-B3D7-0D77EBD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FE4-C6D0-4856-98C9-FC27763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B668-965D-4F1E-9636-C634523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BAD-052D-4845-8FFE-10D9CE1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5FF9-8D55-4705-BFDA-D323D55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F26-9374-4A29-AFBA-981F554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F81E-5BB7-4622-AFDF-875E038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5B62-0ADA-4256-BF11-4E5F67D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0DEE-F790-4F2A-B5F7-EFE1063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E73B-357D-477E-9AE0-A2931A2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D712-607E-488C-903E-50E2809A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90D-595B-4490-8245-1484A0B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29E-1591-4BB8-8D82-D3F4F58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C75-5717-482B-A3A8-D20D1D9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FD1-02AD-4771-8ECD-B725C30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263-63BE-4702-9F73-2B68289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348-CAB9-4F02-BD86-4D498F3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2E0-FD65-4979-8666-C04BFF6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2CC-AC1E-4EA1-9DDD-A94DDBFB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1FD-1DA7-47A6-B539-4C0D9B432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286000" y="1752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33920" y="1752480"/>
            <a:ext cx="18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38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09080" y="3200400"/>
            <a:ext cx="529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convenei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conveni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cunveni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 conveni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527120" y="3200400"/>
            <a:ext cx="30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 conveni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66280" y="2895480"/>
            <a:ext cx="59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3240" y="3168720"/>
            <a:ext cx="60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twenty-one to ninety-n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457200" y="3352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do you use before a l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30960" y="33526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533520" y="3276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is used between biblical chapters and ver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447920" y="304812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4 examples of titles that you put in quotation mark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89280" y="316872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of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stories, poems, articles, songs, one-act plays, chapters, and ess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100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2880" y="3168720"/>
            <a:ext cx="34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a lot or alo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86640" y="3200400"/>
            <a:ext cx="83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5 examples of titles that you under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nctuation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985680" y="2666880"/>
            <a:ext cx="747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five of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azines, TV shows, airplanes, plays of two or more ac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s, albums or CDs, ships, oper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papers, pamphlets, painting, book-length po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,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460440" y="312408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you use irregardless or 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533520" y="2971800"/>
            <a:ext cx="8229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ervous about giving his speech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rds can replace very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3240" y="31687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ly or extreme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685800" y="27432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Dad will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loan / lend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e the money, I will repay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loan / lend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n Satur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800" y="316872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nd, lo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914400" y="2971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Freshman / Freshme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 has thirty freshme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080" y="316872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1080" y="3168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066680" y="281952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ttitude, Sam is different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(than / from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is sibling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word?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080" y="3168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4320" y="3168720"/>
            <a:ext cx="62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hang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3960" y="3168720"/>
            <a:ext cx="68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personnel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800" y="316872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4320" y="3168720"/>
            <a:ext cx="65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efinition of person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800" y="31687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451160" y="3124080"/>
            <a:ext cx="54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word for a si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800" y="316872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895040" y="316872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female pet is altered, she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pa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sp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146600" y="2895480"/>
            <a:ext cx="694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word for the school 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a person graduates o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hool so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tions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2880" y="316872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a m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300680" y="2819520"/>
            <a:ext cx="69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met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1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2880" y="316872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s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ec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371600" y="2438280"/>
            <a:ext cx="588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unctuation mark can be used to  emphasize, to indicate an abrupt change of thought, and to achieve a special effec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080" y="316872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ash (--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299960" y="1905120"/>
            <a:ext cx="508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sentence is corr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2520" y="31687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Nico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533520" y="3352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nderline/italicize words, letters, signs and nu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3240" y="3168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you refer to their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2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1080" y="3168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071360" y="2819520"/>
            <a:ext cx="629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symb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. - $5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240" y="2438280"/>
            <a:ext cx="81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Vitamins did we take this year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MC900089806[1]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05520" y="2766960"/>
            <a:ext cx="47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 too many!!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900439804[1]"/>
          <p:cNvPicPr/>
          <p:nvPr/>
        </p:nvPicPr>
        <p:blipFill>
          <a:blip r:embed="rId2"/>
          <a:stretch/>
        </p:blipFill>
        <p:spPr>
          <a:xfrm>
            <a:off x="1828800" y="3429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2040480" y="48420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tamin 68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9" descr="MC910216309[1]"/>
          <p:cNvPicPr/>
          <p:nvPr/>
        </p:nvPicPr>
        <p:blipFill>
          <a:blip r:embed="rId3"/>
          <a:stretch/>
        </p:blipFill>
        <p:spPr>
          <a:xfrm>
            <a:off x="6095880" y="2971800"/>
            <a:ext cx="1060560" cy="444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7298640" y="2936880"/>
            <a:ext cx="19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tamin 1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5089320" y="491796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528200" y="2819520"/>
            <a:ext cx="529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pr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per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prescripsh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3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2160" y="316872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re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89280" y="3317760"/>
            <a:ext cx="67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the correct spell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sup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surpr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sur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) supr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lling - $40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080" y="316872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surpr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enni</cp:lastModifiedBy>
  <dcterms:modified xsi:type="dcterms:W3CDTF">2010-05-19T00:52:30Z</dcterms:modified>
  <cp:revision>40</cp:revision>
  <dc:subject/>
  <dc:title>Jeopardy</dc:title>
</cp:coreProperties>
</file>